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772-AFE7-4F27-90EB-ADE443EA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22C-54CD-486A-99E2-3F1B5A5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56F86-0AFD-454B-8EE5-21EE880B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BC866-3EC9-49E4-B4F5-1D39825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17C29-692B-4EC6-8A2D-E77CF4C2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40C3E-414D-46FB-809D-74EB0BC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044CF-DC77-414C-B798-20AFB719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81434-3553-4DBC-A281-810D8DD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E2D9-4E4F-466D-8F0A-238DF08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7A1A-215C-4B84-A156-C49F58A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F0EA-7DE2-4E77-896B-BAD901DD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FEC4-51A4-47B1-B148-357BBFA1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467-AFC6-445E-9CF7-4EF867F9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D810E-AB25-4A61-AF8C-DBEA2E6F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7054F-FAB5-4387-ABB0-23D483F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CD13D-B2F0-4118-90E7-A0DFE99F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DCE3-14A4-4994-A706-7BBCDFEF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96F4-DE5E-4CAA-A118-B692575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B5C97-BE78-4BBB-90C6-DD1C612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90AC-CA35-44FE-9157-DBD965C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3AC9-71B1-40A7-A7F9-C4C9FE2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4514-7698-4D65-824F-C050446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CEB00-08C8-4BBA-BD9D-532D9CE6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FF9-6876-45B5-A6D6-34ACA90C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301C-0F4F-4889-BB30-807242F0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6C5A0-4F88-49B6-ABD1-DD43C303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353A2-A726-4D35-B07D-79A5736C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041F1-EE37-404D-9EC0-C5DB09F7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E3C07-6DB6-4F15-BE84-E0FBFD2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07822-E0BB-4E43-9A6E-6CDB3130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E08D-2D00-44FC-9697-00122E4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7B8C-3827-4F4C-BB16-6719675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E4DDB-A3E9-44A6-9ABF-449BCD4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3BCA-1859-4E86-BD01-D098512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C74A-6F4A-4786-A7DF-05F5DD6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DD54-9B3F-4244-90B2-6AC74EF5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FE622-AACF-4701-A30F-DE7049E9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B5753-A4DB-41D4-9BE2-D42B9855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594FE-28C7-4463-BC2D-5A1DA02F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4C55-FDE7-454C-A64B-596B6C4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2BA0F-C8D5-447D-B9D9-0D16111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615F8-38AB-4312-9948-686D3C7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0BE76-AC12-4314-A053-9800384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A0226-320B-42BC-95F4-480479F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34A60-2280-4F36-965C-B5D08D4A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FA7-6CDB-4F73-A846-A831E03B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ABBB4-9953-466E-9CE6-8EE3DD9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95ECB-7815-4BF9-B4F3-C15C417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9D141-7B0A-4838-8E17-E923EF5D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3235E-CFD9-4AF6-A3F6-20CB429A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825B5-DA38-4C8E-94B4-E7339B2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4965C-6BDD-4276-BFAE-292A9774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7B9B9-D173-40C3-8B2E-2DA47FC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D6C40-585C-4F72-B63C-DBDAABC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2202D-CB3E-41A1-BB7F-A3E8488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1F141-A595-4D29-BB56-05A98C7B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223C-7350-4BD7-8E49-5716338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2D13F-119B-4174-A804-CA6CB9D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BBD6A-B2FA-4DDA-A67F-BF3FBDA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86A13-2AFD-4821-9D22-D2906D3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827C4-EAD4-4338-8CF0-4450627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848F6-6D50-4F18-A59D-FD26A0E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C2BE9-18F1-448B-95C5-623A6776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CA22D-DF30-4523-9A97-4740DCB9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9390B-93F4-4939-B925-015341E5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23D64-9557-4DEA-86A8-92ED967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E303B-0BE8-49FF-84A7-5808CD01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F5FC-F627-4692-98F8-3B999AB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1A4B9-4302-44AB-AC50-7664530F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A206B-6763-4222-BCE4-285C8BA0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9BC39-85DA-4CBA-AF33-719734B4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14003-5A6D-4FBB-91A0-D2B83D5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8A68C-B8E3-4E4C-A322-B0E8C1C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1A235-26C5-407D-B392-AD732A6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E8C4C-3361-4E87-B0F3-05BF7E08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8A4A1-777F-41A1-B5AD-9D72BA57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50D75-795F-466F-86B7-F8AAF74D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60A53-C339-4AE1-A872-4F5221CC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2E9-FB36-4D72-AE0F-944E405F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66799-1A53-48BB-81BB-79A535B3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73EE6-FD80-4F9D-B756-D580832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A68AB-0923-4366-9CBA-BB6DD994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AF876-B577-413E-92DC-27D675C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1E733-CB99-4C51-8F8B-F333918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47A51-7AF1-439A-A1D4-6DE5F05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53318-8788-4B19-8248-76AD987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3C464-B403-461F-9443-8423B8F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FC4AD-6522-4D0A-805B-BF67071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FB386-327D-46CD-BCE3-BDC653DC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130E-A01E-4CC0-82AA-CAA75182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EA59A-4458-468D-92E0-07B45FB4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68CB4-F6CD-4961-B562-70BFAB28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FC15C-2745-4F44-B1A4-44002C30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023F9-2308-4DDF-8F2B-28F6660C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3C955-A5A2-4367-8F4C-E7B7208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1C1C8-CCCA-46AB-B62B-EC82302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AE9F9-A5DB-439E-8DD6-C28A75D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F37D6-F058-45D8-B82F-AC2BAE6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13379-2385-4EE2-90AC-8234627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04924-4D46-419E-B981-D665297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1F2-CDAA-4855-80B8-C0A4D03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DB0F9-1E54-40CF-B3DE-061B4F7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31F6D-AAE0-4554-AED8-56FB2019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97A11-654F-47CD-9B46-DE362976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28073-6102-4B56-B236-A79E5F30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D7B01-C5F0-44D7-A508-3FF8EC3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D4CA6-1C66-4E4A-8315-22A060D0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FE45A-3BCB-40F2-90EF-CE8B19DF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26512-A826-4BE4-9571-BC80A60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59B21-8E99-4FBF-8B85-E991393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1BE7B-0C40-41BA-B832-C1A2937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E7A-BCFF-467A-BF97-ADD90F1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26B-10B9-4AE1-B2D3-696D9B2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1153B-37A5-4CAC-A6AA-7C13E779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D4907-B2DC-41F0-87E4-D67B105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F7F0B-F233-4550-8507-BE6CB7C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33CC9-8A04-4453-94B8-67666647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D3594-A0F8-4DC6-8909-EF307871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7496F-8D6C-4394-9265-3AD3B21E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ED457-CA69-42F9-97CA-0312210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D1C8B-742A-432A-BF28-D11F016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422B4-B337-4009-B2EF-575315E5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7928E-A6E8-4059-936A-2137413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FCA-CA42-4E47-B5AC-80B3ADB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4B7AE-402A-426A-80CD-C84EA389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81B3B-52F1-4543-A6E6-5B2D675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DB9FA-85EA-49E0-8BDD-27D5C25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E7FB2-2DAD-447A-90C5-6611807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1DF3B-270F-417C-BB4E-B6D2FB5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7C091-2BB6-45DE-9EF9-DCB24578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D809F-ACED-454B-BEF9-72ADD7EB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FAAD0-059A-44EC-873D-D930CA6D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4AE25-5624-45A2-998A-8D0E970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B1FB0-B570-45D2-99EB-7A5E00F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0F7-F237-4F47-B2DB-B4D8D72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302C7-CC52-4DF4-A4E7-3E0FE71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046BA-310E-44EA-A6F3-BA7415EE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C2CBC-216A-4E1A-BCB7-E3750DF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51853-1C2D-45C5-A80A-2538CD8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0F6EC-449B-42C5-81DB-D99426A3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3700E-6F14-4869-9631-01BBDDE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8A2D2-B1BB-447D-A05D-A8EAFEC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33482-8857-41B5-BC78-DFBA5569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B87B1-E584-450D-94D2-E273E8F6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93E74-B2D6-45E3-9732-31F164F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9B6C-97F6-4AC2-8B36-DF37BC58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6C671-D11A-4622-8E15-73D652C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6F4141-CAA3-4BC7-A0AE-A3DC36B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4955D-65A6-465C-B10A-59D1938B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12DAF-B1A6-4D3D-8AF3-6F2DDDC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088F3-C188-4D44-8CA3-0A304B77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8CF15-A824-4661-B118-59C12A7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E0583-BE0A-4245-90BB-6E0E84F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40A92-3486-4A18-B47D-075833BB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98C53-91EA-4D02-AD4E-EB0EB225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DE416-4F16-4E22-B5EE-A7FAFE9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AFC-D73B-4342-BE2F-1FFB2B24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EA86A-2A0B-4CAD-91E5-1C014F4F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1A529-0791-46B5-A667-7D12B300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3DD42-042C-4A8E-A320-0AE2E726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68F4D-4D83-418A-92B7-B672D51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CBF3A-58D6-4873-AC62-DC4C1EEF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26450-A483-4484-93C0-673793E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FE742-9DAF-4627-86C6-5CA1694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E1300-7A64-4DD3-BD03-92A02E6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0449E5-1457-482A-B21B-19FCBA1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E4AA0-6257-4800-AD5E-0A8F2F4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FB93-DF1C-473C-88D5-43AD5076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DB17D0-A576-4BF4-89C7-B9F53FD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DE203-6AE0-4941-8F14-F1B9A17F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5D5AF-323A-431F-8012-B206F96E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7269-A2C7-4D99-99DF-618A42F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8EAE-8A27-4AD7-B5BB-49685D5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CA8B-1E81-4BC2-B18E-0FACAA0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2959-FD68-4DAC-B0ED-349EBD5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1F8-D4F5-4AF3-8E63-6DAAD31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E1A9-D423-4A58-A48C-32B3A59D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CDEB-DF9B-4486-9207-47144BA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B812-3F38-41C1-B7DF-4DA096D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79EE-0EE0-4183-AF46-EB67087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C91C-D540-441A-B414-E1FDDFF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2C26-AB00-44A1-926A-66C5E33A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44E2-C6ED-4D2F-987A-F106711A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7221-DF42-4286-8BDC-6DBEA034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BFE0-ABFD-49A3-A9CD-7E8FE37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3929-85B8-4333-BEE8-5BE8502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A93-E839-41E8-8C10-771660C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68AB-5A15-49EF-BABE-E7D7B39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DC7F-D312-4B60-8E40-2580714A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CDCF-5D51-4378-9DF0-04CDF95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9B6E-40F4-4537-82BA-30D1F49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FB49-4BCF-4E63-A0CB-C6CFCB6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37CA-B2D6-4EEC-B6DA-170A19D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BCB9-6901-411B-838B-DBA49CD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7DB0-7F33-4A8B-A808-CEA39966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AF400-301B-43DE-9CBC-67BCA59C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33AE-ABAF-4A28-BA4E-EF2F5E07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A7E-0899-4CFA-9B21-9C7132A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C922-2890-46CB-AE1A-C510B4A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796A-EDC8-47A4-803C-8505253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06CB-68C7-46E9-9CF8-45491134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AA86-DE2A-424F-95A3-969957F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316F4-6F54-4ABC-B63D-865E223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1263-2FF8-476B-842B-4B74F89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BADF-82A5-4003-AF2A-D64D734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70E9-11F4-42DA-AF26-BE08895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625DB-C0B8-42D4-9561-9849089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E58D-5987-4F7B-91CF-64FEB7E3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273-9E44-4F05-BD61-1253D543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859B5-4616-4131-8051-C198BA1F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9BD8E-2D8A-44DB-82F7-53479362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4639-116E-4205-842A-65BAD17A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D768-65B5-4A36-B445-0AC353E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4C8C-C196-492D-B9E3-0F8AE43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0809-E2F1-478C-AC4C-DD015E52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1AF6-AA14-4403-A414-9C3F0E2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876B-32DF-48A2-9FF2-1B4C40C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A1BC-D3B0-49CA-9BAD-E729671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604E-81EF-4E15-9C9A-9C613550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9A5-08DF-457A-B570-429D860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6F79-BDF0-422F-A287-EE8C0796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48E9-B51D-48C5-884F-E0817FD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BD99-3142-4B99-B673-FCAEDDC5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1016-248B-4E0F-AC0B-9E742EDB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F767-2C11-4886-A505-0C12A09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8EDB-6B55-4AF8-A023-93663BB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FF92-3171-47E4-9CF8-6B70AA2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5E2F-8669-4F5E-B588-2527BC1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4C8A-AB31-477E-828E-A3B25D6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9495-07FC-4D4F-9399-B3A8F8A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A59-ADEC-4E94-934E-19C538A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3401-BCF7-41EC-856F-959D0F0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82CE-6C54-4CE2-99C3-F5B0D1F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3697-EFA4-4A70-B51E-5FF3DE2C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64C93-748C-492D-8FA5-C92C0AD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783D-A442-4C24-8341-20F113D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36BE-42DB-4A2B-83F5-AFDE8619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3CF2-768B-4850-9F36-B9BB05E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62DE-C30B-4D75-998B-3BC71BB9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5D95-E507-441F-9A83-95D73C08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7180-487A-4699-8728-EE0B5622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DB2-C6E5-4CA9-884C-ACD8529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9976-33E5-48EC-8BEE-D2AB5407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94EC6-6F6C-430B-978D-50E8D34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F587-9171-4D58-9D50-081E434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56DA-AABE-4F2A-BC90-2A8DBB2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AAAC-6094-4E09-90AD-D5A1E0D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CA93-9A00-4C48-A994-4DEE062F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ADE2-9BB4-4DA6-908D-39F7F8A8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FE277-983F-4743-B389-3E7AC59C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6529-CA79-45D9-81EE-5D39532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4BB5F-9C9F-4E5E-9DE8-28420470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3239-74A9-48CE-911D-1D83615CD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129-B03E-49A5-AB40-7AA9425B78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2B5-FAAB-45DC-9E5B-673936FBDC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F37C-17DC-4057-BA80-0EA3FAE533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BF8C-E25D-4BAD-B47D-9B1073959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1DD-9BBC-45DC-889E-D55AE1968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76BF-B5B7-41AA-96B4-349BA943E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A090-54EB-46B2-A54D-D8581B888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08B-32C2-49D6-BD82-4C4D38856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490-7785-45F7-A31E-E735B70A9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21E-95D7-487A-93DD-A3CC201D7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6DE4-6EB8-4477-A49B-26515E0E9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9AF8-6503-45A3-B487-98948D231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CDB-1D8B-4769-B0A0-7661769DD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0D70-B883-4766-9612-2D957FBD4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81A-412A-42F1-B6DC-6C57EAA4A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F0A4-026C-4BB5-A4E9-A09A215B0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3E3-131C-4F3C-A2D1-641506AD98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75B2-1C46-4B08-AA66-E4465153B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66CC-1C16-4E6B-A7F2-145D5E429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DE0-FBD1-41D2-87BE-6CC53FEA6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E4F-05DE-4B52-85BB-044CA0BD62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A77-EF60-4429-B50E-5E73D1E4F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988-4E5C-4F12-8C73-AA33642E2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B2B2-96E3-45B0-9058-F358246A3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187-BD27-4880-A478-A743B114A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073-8DAF-40C2-BEA8-FC754E298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2E2D-3339-4329-A3E9-8813C7D2C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C59-98B3-4853-B9C2-72070C119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8DA0-3355-4737-B880-065933BAB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0ECF-4040-4443-A1DD-BA87CCCA0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166B-3B4F-4A27-A50E-6A3922799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683-A117-4EE9-B805-5C4E9AB4C5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843-30D3-452B-8DF9-30A3C0340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850-3B28-4D4B-9489-CD1252037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DB6-B3C9-4F44-A269-4A24D6C0F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148-5771-4122-9177-6EB9DFF9A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FF8-7C53-41D9-8A1A-69A60A586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83D7-6D2D-4C3E-A6DB-2CAF8AF3C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201-9AE1-4088-BF35-5CDA99AD8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3" descr=""/>
          <p:cNvPicPr/>
          <p:nvPr/>
        </p:nvPicPr>
        <p:blipFill>
          <a:blip r:embed="rId1"/>
          <a:stretch/>
        </p:blipFill>
        <p:spPr>
          <a:xfrm>
            <a:off x="142920" y="2919240"/>
            <a:ext cx="87868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952560" y="3105000"/>
            <a:ext cx="72388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57200" y="747720"/>
            <a:ext cx="8229600" cy="53625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1000080" y="2428920"/>
            <a:ext cx="357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1000080" y="4357800"/>
            <a:ext cx="357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"/>
          <p:cNvPicPr/>
          <p:nvPr/>
        </p:nvPicPr>
        <p:blipFill>
          <a:blip r:embed="rId1"/>
          <a:stretch/>
        </p:blipFill>
        <p:spPr>
          <a:xfrm>
            <a:off x="447840" y="1338120"/>
            <a:ext cx="8248320" cy="41817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1000080" y="1428840"/>
            <a:ext cx="357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1000080" y="3786120"/>
            <a:ext cx="357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220240" cy="1162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642960" y="2857680"/>
            <a:ext cx="4286160" cy="1819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5143680" y="2857680"/>
            <a:ext cx="2895480" cy="18000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4"/>
          <p:cNvSpPr/>
          <p:nvPr/>
        </p:nvSpPr>
        <p:spPr>
          <a:xfrm>
            <a:off x="928800" y="1285920"/>
            <a:ext cx="35712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533520" y="1176480"/>
            <a:ext cx="8076960" cy="450504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4429080" y="1643040"/>
            <a:ext cx="207180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2786040" y="300024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4714920" y="3929040"/>
            <a:ext cx="10713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"/>
          <p:cNvSpPr/>
          <p:nvPr/>
        </p:nvSpPr>
        <p:spPr>
          <a:xfrm>
            <a:off x="5429160" y="4422600"/>
            <a:ext cx="10717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"/>
          <p:cNvSpPr/>
          <p:nvPr/>
        </p:nvSpPr>
        <p:spPr>
          <a:xfrm>
            <a:off x="2857680" y="4857840"/>
            <a:ext cx="8571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76280" y="871560"/>
            <a:ext cx="8191440" cy="51148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3929040" y="185724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4071960" y="278604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2857680" y="3714840"/>
            <a:ext cx="10713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4572000" y="4643280"/>
            <a:ext cx="14288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1857240" y="5072040"/>
            <a:ext cx="107172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82080" cy="58672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3071880" y="3357720"/>
            <a:ext cx="36432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4714920" y="5715000"/>
            <a:ext cx="40003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1071720" y="6143760"/>
            <a:ext cx="17859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762680" cy="34290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2286000" y="2143080"/>
            <a:ext cx="4286160" cy="393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2286000" y="3071880"/>
            <a:ext cx="478620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2286000" y="4500720"/>
            <a:ext cx="3429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6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